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utiger LT Std 45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A948-C7B9-465A-998E-4B93CF345769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A524-8BB6-476F-8A1A-B2C2DD48DD4B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1FB2-B06D-4F4C-96CC-6B29B24FC129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hase 1 In this initiation phase, teachers take time to focus their action learning in the contex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chool or broader initiatives in education, getting clear which issue is to be add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y also enrol colleagues into the program, inducting them into action learning and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learning project, finding resources, scheduling meetings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Each teacher takes some time to explore and find the focus of their own acti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ithin the wider work of the group.This involves some reflection and initial class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vestigations, checking out ‘hunches’ about why things are the way they are,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bservation and inquiry.Teachers use colleagues and facilitators as required in this phas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elp them clarify their thinking and to make pl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The group and its individual members have, up to this point, been engaged with larg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intellectual, diagnostic, paper-and-talk activities that have been a preparation for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ing period of the program will be occupied with getting it done through rep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cycles of action learning. In reality, there is no such neat split of ‘finding what to do’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doing it’, they are intermixed rather than end-to-e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Phase 4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is a good idea, halfway through the program or sooner, to review and fine-tun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orkings of the program. Elements such as data-gathering, reflection, journals, meeting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using critical friends can be evaluated, asking how these contributors to learning might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re effective. It may also be invigorating for participants to present their earl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d findings to a wider audience of teachers, which is ‘tuned’ to respond with apprec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eedback, questions and ideas for going for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>
                <a:solidFill>
                  <a:srgbClr val="000000"/>
                </a:solidFill>
                <a:latin typeface="Times New Roman"/>
              </a:rPr>
              <a:t>Phase 5: ‘Going deeper’ - getting more from action learning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eachers who maintain the process seem to reap greater rewards in the second half of a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o nine month program. Knowing the process, teachers want to use it to dig a bit d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to the underlying causes of problems in students’ learning and behaviour.The more m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ction learning group also becomes more efficient and productive. Having found their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 the group, people enjoy the discussions, the learning and the camaraderie. It seems that,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later phases of a program, teachers seek more critical examination of their pro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rom their colleagues whereas in the earlier stages, they were more concerned to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cceptance and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 they develop a more reflective approach, some teachers also discover mo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mselves than they expected.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"I didn’t realise how stale I had become in my teaching,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boring I had become and how out of touch with the kids I was – I always thought of myself 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innovative teacher the kids liked to have - until I started really looking at my disinterest in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work once I had got them busy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nfronted by such realisations, teachers are faced with the painful task of adjusting selfperce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d behaviour. It seems that in this discomfort, the ‘deeper’ work of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earning takes place. Changes to teaching practice are a natural effect of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wareness. Not everyone participating in action learning will seek or experience pro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ersonal renewal, and should not be deemed to have somehow missed the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owever, teachers do commonly report, and with enthusiasm, a renewed interest in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ersonal effective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>
                <a:solidFill>
                  <a:srgbClr val="000000"/>
                </a:solidFill>
                <a:latin typeface="Times New Roman"/>
              </a:rPr>
              <a:t>Phase 6: Reviewing the learning and presenting work t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re is of course no completion of the cycle spiral of action learning. It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owever, a point of conclusion will be chosen for any program to which resourc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been allocated.This phase involves drawing overall conclusions from the learning and fi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eaningful ways to present the program’s findings to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645A-243B-4F0A-A034-7493AD1B7FBF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47A4-7C39-4E3C-8CDA-CF34EADA365D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E3CA-9323-4AC8-8162-F0E7C8D2B9FA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C45C-24A6-454B-9D0B-2FF8DB798D1F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4D68-B678-4FC2-A697-B0C2074C01E5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B752-3DC8-4490-8787-9D6AA761554D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E516-DBA0-419A-957A-53D18D4C5178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478E-FA04-4C89-AB96-BA09C3D07DD8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D8DB-75EF-4611-8EC1-9FA4DB8F129B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0A67-2F2C-4566-967C-4B4273CF87A7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E1F5-0987-41B9-B05B-FDE6CB9AADB5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D6D8-E828-40D7-B2BF-A4F2798B00CA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0E22-B98D-4F75-AF5D-9B19951EF88F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4B01-AE24-4E3D-B065-C2AA6B842718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evels of intention, involvement and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ction learning assumes that participants learn from their own experiences, that they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with others and that they share the knowledge with the wider community in which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ive or work. It assumes that each participant brings the intention to learn, to support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thers want to find out and to contribute to the community’s knowl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he research is into one’s own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ction learning involves research, but not research on other people’s practices.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earning involves research into a teacher’s own work practices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with and for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earning is cradled in the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ction learning is situated in the task of teaching. Improvement is achieved by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flecting on their work and asking, with the help of colleagues, in what ways they might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more effectively. Unlike many other forms of professional learning, action learning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eachers’ actual experiences and the learning is directed b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04A2-4407-4212-B353-05E0ED92F25F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682-D33E-4132-A1F1-F65BB5E51565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E852-3B35-4CD1-A62B-51B3D7989A58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46F8-A80E-494B-B626-17BCA4BBA341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Frutiger LT Std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Frutiger LT Std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Frutiger LT Std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Frutiger LT Std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Frutiger LT Std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596360" y="5789520"/>
            <a:ext cx="558720" cy="8463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28600" y="5791320"/>
            <a:ext cx="73152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pic>
        <p:nvPicPr>
          <p:cNvPr id="4" name="Picture 6" descr="Small Pic 4"/>
          <p:cNvPicPr/>
          <p:nvPr/>
        </p:nvPicPr>
        <p:blipFill>
          <a:blip r:embed="rId2"/>
          <a:stretch/>
        </p:blipFill>
        <p:spPr>
          <a:xfrm>
            <a:off x="8244000" y="5773680"/>
            <a:ext cx="68904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295280"/>
            <a:ext cx="769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LT Std 55 Roman"/>
              </a:rPr>
              <a:t>Collaborative Action Learning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Frutiger LT Std 55 Roman"/>
              </a:rPr>
              <a:t>Strengthening understandings of the action learning model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28600" y="4038480"/>
            <a:ext cx="990720" cy="1600200"/>
          </a:xfrm>
          <a:prstGeom prst="rect">
            <a:avLst/>
          </a:prstGeom>
          <a:solidFill>
            <a:srgbClr val="8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28600" y="5791320"/>
            <a:ext cx="86868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pic>
        <p:nvPicPr>
          <p:cNvPr id="51" name="Picture 6" descr="Front pic 2"/>
          <p:cNvPicPr/>
          <p:nvPr/>
        </p:nvPicPr>
        <p:blipFill>
          <a:blip r:embed="rId1"/>
          <a:stretch/>
        </p:blipFill>
        <p:spPr>
          <a:xfrm>
            <a:off x="1332000" y="4043520"/>
            <a:ext cx="3024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656160" cy="5072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4786200" y="85716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Components of an Action Learning Project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LT Std 45 Light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is our context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is the data telling us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targets do we want to achieve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information/support can we access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is our learning question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methodology will we use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data will we collect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How will we evaluate our project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How will we share our findings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utiger LT Std 45 Light"/>
              </a:rPr>
              <a:t>Act</a:t>
            </a:r>
            <a:endParaRPr b="0" lang="en-US" sz="66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a word on data collection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2227680" y="1643040"/>
            <a:ext cx="4510800" cy="4053600"/>
            <a:chOff x="2227680" y="1643040"/>
            <a:chExt cx="4510800" cy="4053600"/>
          </a:xfrm>
        </p:grpSpPr>
        <p:sp>
          <p:nvSpPr>
            <p:cNvPr id="76" name="AutoShape 5"/>
            <p:cNvSpPr/>
            <p:nvPr/>
          </p:nvSpPr>
          <p:spPr>
            <a:xfrm flipH="1">
              <a:off x="2286000" y="1785960"/>
              <a:ext cx="4452480" cy="38095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olidated conclusion</a:t>
              </a:r>
              <a:endParaRPr b="0" lang="en-US" sz="18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  <p:sp>
          <p:nvSpPr>
            <p:cNvPr id="77" name="AutoShape 6"/>
            <p:cNvSpPr/>
            <p:nvPr/>
          </p:nvSpPr>
          <p:spPr>
            <a:xfrm flipH="1">
              <a:off x="2286000" y="1785960"/>
              <a:ext cx="4452480" cy="3809520"/>
            </a:xfrm>
            <a:prstGeom prst="pi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  <p:sp>
          <p:nvSpPr>
            <p:cNvPr id="78" name="AutoShape 7"/>
            <p:cNvSpPr/>
            <p:nvPr/>
          </p:nvSpPr>
          <p:spPr>
            <a:xfrm flipH="1">
              <a:off x="2286000" y="1785960"/>
              <a:ext cx="4452480" cy="380952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 rot="1881600">
              <a:off x="4761360" y="2010240"/>
              <a:ext cx="1532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Source 2</a:t>
              </a:r>
              <a:endParaRPr b="0" lang="en-US" sz="16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 rot="16520400">
              <a:off x="1745640" y="3349440"/>
              <a:ext cx="1532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Source 1</a:t>
              </a:r>
              <a:endParaRPr b="0" lang="en-US" sz="16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 rot="19658400">
              <a:off x="4658040" y="4817520"/>
              <a:ext cx="170316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 Source 3</a:t>
              </a:r>
              <a:endParaRPr b="0" lang="en-US" sz="18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85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Observe</a:t>
            </a:r>
            <a:endParaRPr b="0" lang="en-US" sz="60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85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flect</a:t>
            </a:r>
            <a:endParaRPr b="0" lang="en-US" sz="60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utiger LT Std 45 Light"/>
              </a:rPr>
              <a:t>Quality teaching and protocols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Protocols are a powerful tool to assist in evaluating programs, classroom practice and assessment task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Protocols enhance opportunities to discuss the QT elements in a structured, respectful environment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The NSN protocols share theoretical origins with the NSW Quality Teaching model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LT Std 45 Light"/>
              </a:rPr>
              <a:t>Connecting with Quality Teaching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do I want the students to learn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y does it matter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am I going to get the students to do/produce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How well do I expect them to do it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utiger LT Std 45 Light"/>
              </a:rPr>
              <a:t>The action learning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Effective action learning should: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reflect the context of the school/year/Stage/ class involved in the learning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respond to relevant data and syllabus outcome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be collaboratively developed by the people involved in the learning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be manageable in terms of cohort, targets, methodology and data collection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Frutiger LT Std 45 Light"/>
              </a:rPr>
              <a:t>Advice for using action learning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start with a small group and gradually widen the sphere of influence – reporting is critical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give all participants an equal say in decision making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keep the project as simple as possibl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don’t overestimate what can be achieved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have a detailed plan and timelin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seek advice and information from a variety of source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utiger LT Std 45 Light"/>
              </a:rPr>
              <a:t>Session outcomes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Participants will: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review the purpose and nature of collaborative action learning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Understand Action Learning in the context of the project.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Frutiger LT Std 45 Light"/>
              </a:rPr>
              <a:t>Advice for using action learning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data should be collected and analysed at all stage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make time for team building and teamwork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grow with the project as people’s data and analysis skills develop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there are no quick fixes or guarantee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be prepared to learn from mistakes and accept this as part of the project – this applies to </a:t>
            </a:r>
            <a:r>
              <a:rPr b="1" lang="en-AU" sz="2800" spc="-1" strike="noStrike">
                <a:solidFill>
                  <a:srgbClr val="000000"/>
                </a:solidFill>
                <a:latin typeface="Frutiger LT Std 45 Light"/>
              </a:rPr>
              <a:t>everyone </a:t>
            </a: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involved in the learning.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LT Std 45 Light"/>
              </a:rPr>
              <a:t>Collaborative Action Learning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Collaborative action learning is a proces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ich can be used by educators to reflect on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their beliefs and improve their practices,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through implementing a plan of action in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collaboration with others in the workplace.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LT Std 45 Light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Frutiger LT Std 45 Light"/>
              </a:rPr>
              <a:t>DET &amp; ACER)</a:t>
            </a: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Collaborative Action Learning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Participants in action learning work together to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identify issues and develop processes for improvement.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In education, action learning is a way teachers can improve both their own practice and their students’ learning outcomes.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The central goal of action learning is positive educational change.</a:t>
            </a:r>
            <a:r>
              <a:rPr b="0" lang="en-US" sz="2400" spc="-1" strike="noStrike">
                <a:solidFill>
                  <a:srgbClr val="000000"/>
                </a:solidFill>
                <a:latin typeface="Frutiger LT Std 45 Ligh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Frutiger LT Std 45 Light"/>
              </a:rPr>
              <a:t>(NSW DET Professional Learning and Leadership</a:t>
            </a: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Frutiger LT Std 45 Light"/>
              </a:rPr>
              <a:t>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Frutiger LT Std 45 Light"/>
              </a:rPr>
              <a:t>Development Directorate 2007)</a:t>
            </a: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utiger LT Std 45 Light"/>
              </a:rPr>
              <a:t>Characteristics of action learning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integrated – part of normal teaching practic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reflective – alternating between implementation and critical reflection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flexible – methods, data and interpretation are refined in the light of understanding gained during the learning proces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active – designed to generate change in small step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relevant – meets the needs of teachers and student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Frutiger LT Std 45 Light"/>
              </a:rPr>
              <a:t>(NSW DET PL&amp;LD 2007)</a:t>
            </a:r>
            <a:endParaRPr b="0" lang="en-US" sz="14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Action Learning Cycle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360" y="17524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842976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Action Learning Spiral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17524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571840" y="1357200"/>
            <a:ext cx="366228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LT Std 45 Light"/>
              </a:rPr>
              <a:t>Collaborative Action learning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3168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Another way to understand collaborativ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action learning is to look at the concepts in its title: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It requires ACTION 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It requires learning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It is a COLLABORATIVE ventur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4285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Frutiger LT Std 45 Light"/>
              </a:rPr>
              <a:t>Phases in an Action Learning Project</a:t>
            </a:r>
            <a:endParaRPr b="0" lang="en-US" sz="4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7:35:49Z</dcterms:created>
  <dc:creator>DET</dc:creator>
  <dc:description/>
  <dc:language>en-US</dc:language>
  <cp:lastModifiedBy>det</cp:lastModifiedBy>
  <dcterms:modified xsi:type="dcterms:W3CDTF">2009-05-03T22:30:31Z</dcterms:modified>
  <cp:revision>62</cp:revision>
  <dc:subject/>
  <dc:title>Finding a starting point for your research</dc:title>
</cp:coreProperties>
</file>